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DFC-B952-4CCA-A7F7-5803719C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68F-4446-40F0-8B59-FCD2695D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C36-3677-4B43-B97C-84C26B1D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84E-E4CA-4A36-B530-FC5AB3DF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1AC4-712F-49E4-87AB-6311FAAF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E739-4DB6-45B4-AC1D-8DBCC289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FA41-681D-4797-A5AB-243D7B09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CC70-27EC-4B45-8FB3-75CB4D4E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DD2B-0E7C-4DC8-8287-44E52304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3DED-78F0-42B1-8006-3CE65651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48CF-2F50-4AD2-BE83-E8EED05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672-E70C-4C57-968A-92EFB249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71D6-AA23-4973-9DD1-97331A6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7AC6-C4FA-40E1-95C1-CF5A9AB6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0782-8AF4-4D04-B06F-ABEDE1C0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1F55-768C-4A81-BA75-5B10F2D0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21EF-E6A1-4310-B7D1-DC3BAF66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A9B-9052-4F47-A7FA-F54F4A03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9EC-D47F-4E2F-A9EF-3CFB5151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A4C-5703-4EAF-A5FD-C3D6C8ED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7DC-5336-485A-96A1-1A99D7A2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C61-578D-4748-82A9-C372AD79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63B-9009-47A3-9BCF-FCD13385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FEA-2EEE-4195-A63B-BD3512D6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EA0C-8CA0-4368-B1A9-C8FC4DBBF04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CBD3-78CD-4967-92A6-17566F00D47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4360" y="549360"/>
            <a:ext cx="806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ahoma"/>
              </a:rPr>
              <a:t>Мастер-класс по теме: «Лабораторные работы по математике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16360" y="3789360"/>
            <a:ext cx="40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итель математики МОУ СОШ №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. Белин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дионова И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Матье Хемакерзом-Бельгия"/>
          <p:cNvPicPr/>
          <p:nvPr/>
        </p:nvPicPr>
        <p:blipFill>
          <a:blip r:embed="rId1"/>
          <a:stretch/>
        </p:blipFill>
        <p:spPr>
          <a:xfrm>
            <a:off x="2227320" y="404640"/>
            <a:ext cx="4689360" cy="60487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Mebius%20XXII.jpg"/>
          <p:cNvPicPr/>
          <p:nvPr/>
        </p:nvPicPr>
        <p:blipFill>
          <a:blip r:embed="rId1"/>
          <a:srcRect l="0" t="8331" r="0" b="11458"/>
          <a:stretch/>
        </p:blipFill>
        <p:spPr>
          <a:xfrm>
            <a:off x="1714680" y="142920"/>
            <a:ext cx="5500440" cy="6613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Мебиус1"/>
          <p:cNvPicPr/>
          <p:nvPr/>
        </p:nvPicPr>
        <p:blipFill>
          <a:blip r:embed="rId1"/>
          <a:stretch/>
        </p:blipFill>
        <p:spPr>
          <a:xfrm>
            <a:off x="2124000" y="189000"/>
            <a:ext cx="4765680" cy="63579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optic_6"/>
          <p:cNvPicPr/>
          <p:nvPr/>
        </p:nvPicPr>
        <p:blipFill>
          <a:blip r:embed="rId1"/>
          <a:stretch/>
        </p:blipFill>
        <p:spPr>
          <a:xfrm>
            <a:off x="303120" y="1400040"/>
            <a:ext cx="8537760" cy="405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ractals_work_of_jean_constant"/>
          <p:cNvPicPr/>
          <p:nvPr/>
        </p:nvPicPr>
        <p:blipFill>
          <a:blip r:embed="rId1"/>
          <a:stretch/>
        </p:blipFill>
        <p:spPr>
          <a:xfrm>
            <a:off x="2401920" y="166680"/>
            <a:ext cx="4340160" cy="65246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11-1.gif"/>
          <p:cNvPicPr/>
          <p:nvPr/>
        </p:nvPicPr>
        <p:blipFill>
          <a:blip r:embed="rId1"/>
          <a:stretch/>
        </p:blipFill>
        <p:spPr>
          <a:xfrm>
            <a:off x="1928880" y="142920"/>
            <a:ext cx="5214960" cy="6559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лист мёбиуса 1"/>
          <p:cNvPicPr/>
          <p:nvPr/>
        </p:nvPicPr>
        <p:blipFill>
          <a:blip r:embed="rId1"/>
          <a:stretch/>
        </p:blipFill>
        <p:spPr>
          <a:xfrm>
            <a:off x="1403280" y="1413000"/>
            <a:ext cx="6473880" cy="48560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Лист Мебиуса в природе.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 spd="med" advTm="1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vselennaya_kak_dodekaedr_0.jpg">
            <a:hlinkClick r:id="rId1" action="ppaction://hlinksldjump"/>
          </p:cNvPr>
          <p:cNvPicPr/>
          <p:nvPr/>
        </p:nvPicPr>
        <p:blipFill>
          <a:blip r:embed="rId2"/>
          <a:srcRect l="0" t="0" r="0" b="8126"/>
          <a:stretch/>
        </p:blipFill>
        <p:spPr>
          <a:xfrm>
            <a:off x="357120" y="428760"/>
            <a:ext cx="8390160" cy="59292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71440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c000"/>
                </a:solidFill>
                <a:latin typeface="Tahoma"/>
              </a:rPr>
              <a:t>ЛИСТ МЁБИУСА</a:t>
            </a:r>
            <a:endParaRPr b="0" lang="en-US" sz="12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1" name="Рисунок 3" descr="vselennaya_kak_dodekaedr_0.jpg"/>
          <p:cNvPicPr/>
          <p:nvPr/>
        </p:nvPicPr>
        <p:blipFill>
          <a:blip r:embed="rId1"/>
          <a:srcRect l="0" t="0" r="0" b="8126"/>
          <a:stretch/>
        </p:blipFill>
        <p:spPr>
          <a:xfrm>
            <a:off x="357120" y="428760"/>
            <a:ext cx="3133800" cy="22143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mebius"/>
          <p:cNvPicPr/>
          <p:nvPr/>
        </p:nvPicPr>
        <p:blipFill>
          <a:blip r:embed="rId1"/>
          <a:stretch/>
        </p:blipFill>
        <p:spPr>
          <a:xfrm>
            <a:off x="414360" y="905040"/>
            <a:ext cx="4157640" cy="504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88000" y="549000"/>
            <a:ext cx="41623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густ Фердинанд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ёбиу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1790-1868)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4" name="Picture 4" descr="mebius"/>
          <p:cNvPicPr/>
          <p:nvPr/>
        </p:nvPicPr>
        <p:blipFill>
          <a:blip r:embed="rId2"/>
          <a:stretch/>
        </p:blipFill>
        <p:spPr>
          <a:xfrm>
            <a:off x="5508720" y="4221000"/>
            <a:ext cx="2832120" cy="19306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История открытия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4437000"/>
            <a:ext cx="88059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относится к числу «математических неожиданностей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казывают, что открыть свой «лист» Мёбиусу помогла служанка, сшившая однажды неправильно концы л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лист мебиуса 3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29466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получается очень просто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лейте из бумажной полоски кольцо, только перед склеиванием поверните один конец на 18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Если полоска бумаги была длинной, то такой поворот мог произойти и случайно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лист мёбиуса 2"/>
          <p:cNvPicPr/>
          <p:nvPr/>
        </p:nvPicPr>
        <p:blipFill>
          <a:blip r:embed="rId1"/>
          <a:stretch/>
        </p:blipFill>
        <p:spPr>
          <a:xfrm>
            <a:off x="1547640" y="3860640"/>
            <a:ext cx="6350040" cy="27306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mebius"/>
          <p:cNvPicPr/>
          <p:nvPr/>
        </p:nvPicPr>
        <p:blipFill>
          <a:blip r:embed="rId1"/>
          <a:srcRect l="10798" t="10798" r="9584" b="4589"/>
          <a:stretch/>
        </p:blipFill>
        <p:spPr>
          <a:xfrm>
            <a:off x="785880" y="428760"/>
            <a:ext cx="7607160" cy="6064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pic>
        <p:nvPicPr>
          <p:cNvPr id="101" name="Kalimba.mp3" descr=""/>
          <p:cNvPicPr/>
          <p:nvPr/>
        </p:nvPicPr>
        <p:blipFill>
          <a:blip r:embed="rId2"/>
          <a:stretch/>
        </p:blipFill>
        <p:spPr>
          <a:xfrm>
            <a:off x="8459640" y="6203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mebius9.jpg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551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0_12b51_4a45a684_XL.jpg"/>
          <p:cNvPicPr/>
          <p:nvPr/>
        </p:nvPicPr>
        <p:blipFill>
          <a:blip r:embed="rId1"/>
          <a:srcRect l="21237" t="0" r="0" b="0"/>
          <a:stretch/>
        </p:blipFill>
        <p:spPr>
          <a:xfrm>
            <a:off x="1071720" y="142920"/>
            <a:ext cx="6858000" cy="65307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80px-MobiusStrip-01.png"/>
          <p:cNvPicPr/>
          <p:nvPr/>
        </p:nvPicPr>
        <p:blipFill>
          <a:blip r:embed="rId1"/>
          <a:stretch/>
        </p:blipFill>
        <p:spPr>
          <a:xfrm>
            <a:off x="1214280" y="714240"/>
            <a:ext cx="6858000" cy="54104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1:12Z</dcterms:created>
  <dc:creator>комп</dc:creator>
  <dc:description/>
  <dc:language>en-US</dc:language>
  <cp:lastModifiedBy>1</cp:lastModifiedBy>
  <dcterms:modified xsi:type="dcterms:W3CDTF">2012-03-30T01:34:57Z</dcterms:modified>
  <cp:revision>62</cp:revision>
  <dc:subject/>
  <dc:title>ЛИСТ МЕБИУСА</dc:title>
</cp:coreProperties>
</file>